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280-8467-455F-AFE0-8323FD25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5CE-7226-4632-96DE-6A539F44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80B-D588-4048-914F-EC58EB9E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032-9A05-4759-8A20-00C7EEBB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DA67-004A-40E0-BB04-10B8646C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CBCB-AE40-4E5C-AA18-28E06843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2AC9-C3AD-4317-A5F7-206D08D2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3471-1FAC-4B23-B53A-93D315C9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81FA-5B87-4EC9-9988-A1D48F62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F79B-39AA-42F2-BD43-E3E0EA48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402F-E7C2-4BA9-B251-90AA273D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F4D-5666-4ECD-B184-B5F4D931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07DF-7F98-4F72-8AA1-4C843796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E451-0174-4913-900E-98C01A42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CB47-663A-4320-A409-2BAB95EE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DDA6-B71D-4524-9161-E6193928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31E8-C265-4F22-8670-F4CA3397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AA3-CC95-4E02-9F85-55E43DF6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5F1-CC92-4129-89CC-FA9D3AA4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416-0292-4C2E-AC02-A9FD2B3A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343-19AD-4A36-AFBB-551EF581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C74-98DB-42EE-9460-0E8E5908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34B-E2A8-4CE7-A6FE-0B28AD5E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E84-09BD-4D13-9AF8-B7013CC1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32523-07FF-4692-9AFA-829E451712D1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29D62-588C-4C8D-AB40-65D958A6561F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EAE6B-92A0-4FC6-BD9B-014174CDF0B7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4CAF5-A188-4B1B-8B1C-758C783921AE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ff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Placeholder 2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3353040" cy="2667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6985080" cy="3594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343400" y="533520"/>
            <a:ext cx="3708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matodes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(roundworms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829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2c7c9f"/>
                </a:solidFill>
                <a:uFillTx/>
                <a:latin typeface="News Gothic MT"/>
              </a:rPr>
              <a:t>Miscellaneous:</a:t>
            </a: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ilateral symmetr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seudocoelom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 germ cell lay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980720"/>
            <a:ext cx="8042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oskeleton (cuticl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rue muscle tissue – longitudinal musc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ntral, circular brain-like ganglion with nerve cor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xual: most species have separate sexes with internal fertiliz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uth, intestine, &amp; an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complete digestive tract – 2 opening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cretory tubules &amp; por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0:17:18Z</dcterms:created>
  <dc:creator>Keith or Sherri Holmgren</dc:creator>
  <dc:description/>
  <dc:language>en-US</dc:language>
  <cp:lastModifiedBy>NHS NPS</cp:lastModifiedBy>
  <dcterms:modified xsi:type="dcterms:W3CDTF">2012-05-15T13:30:18Z</dcterms:modified>
  <cp:revision>5</cp:revision>
  <dc:subject/>
  <dc:title>Animal Phyla Chart</dc:title>
</cp:coreProperties>
</file>